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A266-678F-4C58-8B06-6ACA5990A3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6B65-FC6E-4E71-9858-3B08C49E0F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7612-D672-451C-913D-A9B8F38729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CBF5-8E1A-4055-986E-1CDC43C483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F9CC-046D-4F5C-B87E-59A4373BA9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2590-1CC1-4D40-B05B-2F859AE105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0380-AB9B-415B-AD31-000D1A68A34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3D34-D93F-4D38-BB79-FD63DF3181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D289-8805-4B2E-80A0-0B328AD9ED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356F-8FD9-4BA3-BD08-0FE0EBDE41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4E3B-F1A2-4ECC-8696-4A6933F04F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3111-60D2-40C6-85DF-A4C2534047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B1CA-D2B9-4E24-B910-252918D483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02AA-4EA8-4DE3-B566-4BC9A9BC71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1B69-FD3E-45CA-8374-1FB81C7248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C87D-6177-4ADB-8F76-309299B9BD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CA6-081D-4A17-BD82-F732F10CA9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05CA-A1EC-4270-B24E-1FEDBBD275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CC98-AAEE-4721-8115-9277551235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6B6D-C2B0-41BC-93A3-8A8B45D3D0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07DE-0A09-47DA-BAAD-3044638722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B73-D498-463B-A8F9-4569524056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ED5-DA3C-4ACA-A19E-EB2004C7B3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98E7-C41A-4029-AAE9-B37F5ECABC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43FD-116D-4259-AA98-1426EA8F52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63F5-1AC5-4C6C-9EA7-14B09B77B7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5CA-A6B3-4D66-8432-28AC1F0F44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9864-833C-43E2-AD21-1D3DF43DEAF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05F6-3583-4C84-BEB2-87370E1763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99D0-F3DF-4C2A-A9AF-60A699239A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F2FD-B515-4F3C-B7DB-D879102DED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D29-4181-4C6E-A8DC-D644AAE5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EC7-21C6-4878-B6B4-C76EF88C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023-89C1-44D7-B3B2-FFBD72D4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4AD-0C96-46AE-91BE-6858642D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089-006D-4FB4-BE4D-9C4575A4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0F2-1090-4305-8D54-10D0FB64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8FC-C322-4CE9-939A-FDCF5AA2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2E6-71F7-4B76-800B-8EB6C0B2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179-3FE8-4E26-BF06-A5EF84C9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522-910E-4F37-A1B2-C39A2202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F7B-3D72-44D7-AC93-45AA590E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04F-FC20-4273-8C08-280BE44B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6473-0367-4337-82CC-288E163A0FB0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今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考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ǎo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시험을 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둘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q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함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é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공부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500" spc="-1" strike="noStrike">
                <a:solidFill>
                  <a:srgbClr val="000000"/>
                </a:solidFill>
                <a:latin typeface="굴림"/>
              </a:rPr>
              <a:t>어기조사</a:t>
            </a:r>
            <a:r>
              <a:rPr b="0" lang="en-US" sz="7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500" spc="-1" strike="noStrike">
                <a:solidFill>
                  <a:srgbClr val="000000"/>
                </a:solidFill>
                <a:latin typeface="굴림"/>
              </a:rPr>
              <a:t>청유</a:t>
            </a:r>
            <a:r>
              <a:rPr b="0" lang="en-US" sz="7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īngqīyī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월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'èr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화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xīngqīs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수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īngqīsì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목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wǔ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금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liù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토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xīngqīti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休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ū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오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玩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복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加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yó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힘을 내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응원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기원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l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즐겁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生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gr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생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童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Értóng Jié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린이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昨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uó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后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òu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모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gq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3:06:06Z</dcterms:created>
  <dc:creator>System</dc:creator>
  <dc:description/>
  <dc:language>en-US</dc:language>
  <cp:lastModifiedBy>System</cp:lastModifiedBy>
  <dcterms:modified xsi:type="dcterms:W3CDTF">2014-01-24T04:31:19Z</dcterms:modified>
  <cp:revision>9</cp:revision>
  <dc:subject/>
  <dc:title>슬라이드 1</dc:title>
</cp:coreProperties>
</file>